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00850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4CBC-4A12-445A-B962-26CA0926D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9BA8-3A35-4A36-8CFB-DD249996D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0427-F299-4A8D-9063-0159C7232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846E-0BD2-4994-93E3-F6767653A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C975A-7C2C-4DD8-91C9-D97AAF0F3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80CB5-5EED-46BF-B91C-1C24D6B86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BADA5-78BF-49D2-9044-47E2BB9C2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ADC64-E1FA-4AE9-8833-2C923F099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9FF85-08E8-4DA1-AAA0-0407D071C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2B3A4-2E4F-4F31-8233-3F0018DE5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F70EB-923C-4093-B76B-50383C3B2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752B-CCA9-47BD-BDF6-84C0AACF6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6CC30-16D5-4145-AD01-144F354DC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434DB-42A5-471A-AE23-C0AA6B0AB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1A47E-7B82-42AB-96E1-88E0BCA03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5578B-4F60-4C7A-BB2C-14DA62136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7FC77-AB27-483C-B14C-EA4FA1F43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A40C-034F-4B9C-BA15-662C328B7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D706-3CE6-47E4-898D-73F748A66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AAE8-FA82-4C60-86A3-1411D244C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C2D5-3784-4BE0-AC4D-DAE5FF001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FEE3-68B3-4A67-991F-DEB23A69E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BA55-A3E6-4AA5-93E2-9A1D0D2E3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824D-956B-49B5-AC93-964B957DB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7DD87-377C-4D47-ACB3-07A00A245D3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973F5-1FC0-40BF-853A-9A22BB6C4E80}" type="slidenum">
              <a:rPr b="0" lang="cs-CZ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2133360"/>
            <a:ext cx="7772400" cy="172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cs-CZ" sz="3600" spc="-1" strike="noStrike">
                <a:solidFill>
                  <a:srgbClr val="333399"/>
                </a:solidFill>
                <a:latin typeface="Tahoma"/>
              </a:rPr>
              <a:t>Research Proposal</a:t>
            </a:r>
            <a:br>
              <a:rPr sz="3600"/>
            </a:br>
            <a:br>
              <a:rPr sz="2800"/>
            </a:br>
            <a:r>
              <a:rPr b="0" i="1" lang="cs-CZ" sz="2800" spc="-1" strike="noStrike">
                <a:solidFill>
                  <a:srgbClr val="ff0000"/>
                </a:solidFill>
                <a:latin typeface="Tahoma"/>
              </a:rPr>
              <a:t>Assignment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4437000"/>
            <a:ext cx="6400800" cy="12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38000" y="1278000"/>
            <a:ext cx="7048440" cy="99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Tahoma"/>
              </a:rPr>
              <a:t>The research quest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2555640"/>
            <a:ext cx="8229600" cy="357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ormulate research questions to capture research problem and to provide framework for description of findin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search questions indicate what data will be needed for research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search questions influence data collection and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2" name="Picture 4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pic>
        <p:nvPicPr>
          <p:cNvPr id="133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638000" y="1278000"/>
            <a:ext cx="7048440" cy="60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Tahoma"/>
              </a:rPr>
              <a:t>The research questions (cont.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Research problem: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GB" sz="2000" spc="-1" strike="noStrike">
                <a:solidFill>
                  <a:srgbClr val="000000"/>
                </a:solidFill>
                <a:latin typeface="Tahoma"/>
              </a:rPr>
              <a:t>Using social media in advertising for increasing its effe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Research question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000" spc="-1" strike="noStrike">
                <a:solidFill>
                  <a:srgbClr val="000000"/>
                </a:solidFill>
                <a:latin typeface="Tahoma"/>
              </a:rPr>
              <a:t>RQ</a:t>
            </a:r>
            <a:r>
              <a:rPr b="0" i="1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sz="2000" spc="-1" strike="noStrike">
                <a:solidFill>
                  <a:srgbClr val="000000"/>
                </a:solidFill>
                <a:latin typeface="Tahoma"/>
              </a:rPr>
              <a:t>: Why do companies use social media in advertising?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000" spc="-1" strike="noStrike">
                <a:solidFill>
                  <a:srgbClr val="000000"/>
                </a:solidFill>
                <a:latin typeface="Tahoma"/>
              </a:rPr>
              <a:t>RQ</a:t>
            </a:r>
            <a:r>
              <a:rPr b="0" i="1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sz="2000" spc="-1" strike="noStrike">
                <a:solidFill>
                  <a:srgbClr val="000000"/>
                </a:solidFill>
                <a:latin typeface="Tahoma"/>
              </a:rPr>
              <a:t>: How do companies use social media in advertising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000" spc="-1" strike="noStrike">
                <a:solidFill>
                  <a:srgbClr val="000000"/>
                </a:solidFill>
                <a:latin typeface="Tahoma"/>
              </a:rPr>
              <a:t>RQ</a:t>
            </a:r>
            <a:r>
              <a:rPr b="0" i="1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i="1" sz="2000" spc="-1" strike="noStrike">
                <a:solidFill>
                  <a:srgbClr val="000000"/>
                </a:solidFill>
                <a:latin typeface="Tahoma"/>
              </a:rPr>
              <a:t>: How is it possible to measure influence of social media using on effectiveness of advertising?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000" spc="-1" strike="noStrike">
                <a:solidFill>
                  <a:srgbClr val="000000"/>
                </a:solidFill>
                <a:latin typeface="Tahoma"/>
              </a:rPr>
              <a:t>RQ</a:t>
            </a:r>
            <a:r>
              <a:rPr b="0" i="1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i="1" sz="2000" spc="-1" strike="noStrike">
                <a:solidFill>
                  <a:srgbClr val="000000"/>
                </a:solidFill>
                <a:latin typeface="Tahoma"/>
              </a:rPr>
              <a:t>: How is it possible to increase effectiveness of advertising by using social media?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7" name="Picture 4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pic>
        <p:nvPicPr>
          <p:cNvPr id="138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  <p:sp>
        <p:nvSpPr>
          <p:cNvPr id="139" name="Rounded Rectangle 1"/>
          <p:cNvSpPr/>
          <p:nvPr/>
        </p:nvSpPr>
        <p:spPr>
          <a:xfrm>
            <a:off x="646200" y="1989000"/>
            <a:ext cx="1404720" cy="432000"/>
          </a:xfrm>
          <a:prstGeom prst="roundRect">
            <a:avLst>
              <a:gd name="adj" fmla="val 16667"/>
            </a:avLst>
          </a:prstGeom>
          <a:solidFill>
            <a:srgbClr val="00e4a8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Examp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638000" y="1277640"/>
            <a:ext cx="7048440" cy="42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333399"/>
                </a:solidFill>
                <a:latin typeface="Tahoma"/>
              </a:rPr>
              <a:t>The research objectives</a:t>
            </a:r>
            <a:endParaRPr b="0" lang="en-US" sz="2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206028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sz="1500" spc="-1" strike="noStrike">
                <a:solidFill>
                  <a:srgbClr val="000000"/>
                </a:solidFill>
                <a:latin typeface="Tahoma"/>
              </a:rPr>
              <a:t>when formulating research objectives respect research questions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ahoma"/>
              </a:rPr>
              <a:t>- the research objectives more specify research focus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300" spc="-1" strike="noStrike">
                <a:solidFill>
                  <a:srgbClr val="000000"/>
                </a:solidFill>
                <a:latin typeface="Tahoma"/>
              </a:rPr>
              <a:t>RQ</a:t>
            </a:r>
            <a:r>
              <a:rPr b="0" sz="13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sz="1300" spc="-1" strike="noStrike">
                <a:solidFill>
                  <a:srgbClr val="000000"/>
                </a:solidFill>
                <a:latin typeface="Tahoma"/>
              </a:rPr>
              <a:t>: Why do companies use social media in advertising? 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300" spc="-1" strike="noStrike">
                <a:solidFill>
                  <a:srgbClr val="000000"/>
                </a:solidFill>
                <a:latin typeface="Tahoma"/>
              </a:rPr>
              <a:t>RO</a:t>
            </a:r>
            <a:r>
              <a:rPr b="0" i="1" sz="13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sz="1300" spc="-1" strike="noStrike">
                <a:solidFill>
                  <a:srgbClr val="000000"/>
                </a:solidFill>
                <a:latin typeface="Tahoma"/>
              </a:rPr>
              <a:t>: To identify goals of social media using in advertisement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300" spc="-1" strike="noStrike">
                <a:solidFill>
                  <a:srgbClr val="000000"/>
                </a:solidFill>
                <a:latin typeface="Tahoma"/>
              </a:rPr>
              <a:t>RQ</a:t>
            </a:r>
            <a:r>
              <a:rPr b="0" sz="13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sz="1300" spc="-1" strike="noStrike">
                <a:solidFill>
                  <a:srgbClr val="000000"/>
                </a:solidFill>
                <a:latin typeface="Tahoma"/>
              </a:rPr>
              <a:t>: How do companies use social media in advertising?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300" spc="-1" strike="noStrike">
                <a:solidFill>
                  <a:srgbClr val="000000"/>
                </a:solidFill>
                <a:latin typeface="Tahoma"/>
              </a:rPr>
              <a:t>RO</a:t>
            </a:r>
            <a:r>
              <a:rPr b="0" i="1" sz="13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sz="1300" spc="-1" strike="noStrike">
                <a:solidFill>
                  <a:srgbClr val="000000"/>
                </a:solidFill>
                <a:latin typeface="Tahoma"/>
              </a:rPr>
              <a:t>: To describe ways of social media using in advertisement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300" spc="-1" strike="noStrike">
                <a:solidFill>
                  <a:srgbClr val="000000"/>
                </a:solidFill>
                <a:latin typeface="Tahoma"/>
              </a:rPr>
              <a:t>RQ</a:t>
            </a:r>
            <a:r>
              <a:rPr b="0" sz="13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sz="1300" spc="-1" strike="noStrike">
                <a:solidFill>
                  <a:srgbClr val="000000"/>
                </a:solidFill>
                <a:latin typeface="Tahoma"/>
              </a:rPr>
              <a:t>: How is it possible to measure influence of social media using on effectiveness of advertising? 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300" spc="-1" strike="noStrike">
                <a:solidFill>
                  <a:srgbClr val="000000"/>
                </a:solidFill>
                <a:latin typeface="Tahoma"/>
              </a:rPr>
              <a:t>RO</a:t>
            </a:r>
            <a:r>
              <a:rPr b="0" i="1" sz="13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i="1" sz="1300" spc="-1" strike="noStrike">
                <a:solidFill>
                  <a:srgbClr val="000000"/>
                </a:solidFill>
                <a:latin typeface="Tahoma"/>
              </a:rPr>
              <a:t>: To propose suitable indicators to measue influence of social media using on effectiveness of advertising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300" spc="-1" strike="noStrike">
                <a:solidFill>
                  <a:srgbClr val="000000"/>
                </a:solidFill>
                <a:latin typeface="Tahoma"/>
              </a:rPr>
              <a:t>RQ</a:t>
            </a:r>
            <a:r>
              <a:rPr b="0" sz="13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sz="1300" spc="-1" strike="noStrike">
                <a:solidFill>
                  <a:srgbClr val="000000"/>
                </a:solidFill>
                <a:latin typeface="Tahoma"/>
              </a:rPr>
              <a:t>: How is it possible to increase effectiveness of advertising by using social media? 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300" spc="-1" strike="noStrike">
                <a:solidFill>
                  <a:srgbClr val="000000"/>
                </a:solidFill>
                <a:latin typeface="Tahoma"/>
              </a:rPr>
              <a:t>RO</a:t>
            </a:r>
            <a:r>
              <a:rPr b="0" i="1" sz="1300" spc="-1" strike="noStrike" baseline="-25000">
                <a:solidFill>
                  <a:srgbClr val="000000"/>
                </a:solidFill>
                <a:latin typeface="Tahoma"/>
              </a:rPr>
              <a:t>4a</a:t>
            </a:r>
            <a:r>
              <a:rPr b="0" i="1" sz="1300" spc="-1" strike="noStrike">
                <a:solidFill>
                  <a:srgbClr val="000000"/>
                </a:solidFill>
                <a:latin typeface="Tahoma"/>
              </a:rPr>
              <a:t>: To identify factors influencing effectiveness of advertising by using social media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300" spc="-1" strike="noStrike">
                <a:solidFill>
                  <a:srgbClr val="000000"/>
                </a:solidFill>
                <a:latin typeface="Tahoma"/>
              </a:rPr>
              <a:t>RO</a:t>
            </a:r>
            <a:r>
              <a:rPr b="0" i="1" sz="1300" spc="-1" strike="noStrike" baseline="-25000">
                <a:solidFill>
                  <a:srgbClr val="000000"/>
                </a:solidFill>
                <a:latin typeface="Tahoma"/>
              </a:rPr>
              <a:t>4b</a:t>
            </a:r>
            <a:r>
              <a:rPr b="0" i="1" sz="1300" spc="-1" strike="noStrike">
                <a:solidFill>
                  <a:srgbClr val="000000"/>
                </a:solidFill>
                <a:latin typeface="Tahoma"/>
              </a:rPr>
              <a:t>: To judge if some of factors have higher influence than others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Picture 4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pic>
        <p:nvPicPr>
          <p:cNvPr id="144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  <p:sp>
        <p:nvSpPr>
          <p:cNvPr id="145" name="Rounded Rectangle 1"/>
          <p:cNvSpPr/>
          <p:nvPr/>
        </p:nvSpPr>
        <p:spPr>
          <a:xfrm>
            <a:off x="457200" y="2808360"/>
            <a:ext cx="2438280" cy="287280"/>
          </a:xfrm>
          <a:prstGeom prst="roundRect">
            <a:avLst>
              <a:gd name="adj" fmla="val 16667"/>
            </a:avLst>
          </a:prstGeom>
          <a:solidFill>
            <a:srgbClr val="00e4a8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ahoma"/>
              </a:rPr>
              <a:t>Example- continue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050560" y="1125000"/>
            <a:ext cx="6635880" cy="790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Tahoma"/>
              </a:rPr>
              <a:t>Hypothes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the case tha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each specific question you can predict in advance what you expect (before you get and analyze dat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 prediction is based on the theory from which one can derive hypothe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ahoma"/>
              </a:rPr>
              <a:t>Use the hypothesis, if it is possible and useful and do not use it if it does no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Picture 4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pic>
        <p:nvPicPr>
          <p:cNvPr id="150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127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Tahoma"/>
              </a:rPr>
              <a:t>Research questions (RQ), objectives (RO) and hypotheses (H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Prepare it in this way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RQ1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RO1: (it can be also RO1a, RO1b,…if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H1: (</a:t>
            </a:r>
            <a:r>
              <a:rPr b="0" i="1" lang="en-US" sz="2000" spc="-1" strike="noStrike">
                <a:solidFill>
                  <a:srgbClr val="ff0000"/>
                </a:solidFill>
                <a:latin typeface="Tahoma"/>
              </a:rPr>
              <a:t>only if hypothesis will be tested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), it could be also H1a, H1b,… if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RQ2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RO2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H2: (</a:t>
            </a:r>
            <a:r>
              <a:rPr b="0" i="1" lang="en-US" sz="2000" spc="-1" strike="noStrike">
                <a:solidFill>
                  <a:srgbClr val="ff0000"/>
                </a:solidFill>
                <a:latin typeface="Tahoma"/>
              </a:rPr>
              <a:t>only if hypothesis will be tested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.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he number of research questions, objectives and hypotheses is connected with character of your research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127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Tahoma"/>
              </a:rPr>
              <a:t>Research questions (RQ), objectives (RO) and hypotheses (H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52280"/>
            <a:ext cx="764388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333399"/>
                </a:solidFill>
                <a:latin typeface="Tahoma"/>
              </a:rPr>
              <a:t>Quantitative or qualitative research?</a:t>
            </a:r>
            <a:endParaRPr b="0" lang="en-US" sz="2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76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Research is captured by the research questions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76"/>
              </a:spcBef>
              <a:buClr>
                <a:srgbClr val="ff0000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What data are needed to answer them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76"/>
              </a:spcBef>
              <a:buClr>
                <a:srgbClr val="3333cc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How to collect and analyze data 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lnSpc>
                <a:spcPct val="90000"/>
              </a:lnSpc>
              <a:spcBef>
                <a:spcPts val="476"/>
              </a:spcBef>
              <a:buClr>
                <a:srgbClr val="ffcf01"/>
              </a:buClr>
              <a:buSzPct val="5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Results of analyzing data for answering research questions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Testing theory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r </a:t>
            </a: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creating new theo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Tahoma"/>
              </a:rPr>
              <a:t>Theory Verification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– testing hypotheses defined on the base of literature review - </a:t>
            </a:r>
            <a:r>
              <a:rPr b="1" lang="en-GB" sz="2000" spc="-1" strike="noStrike">
                <a:solidFill>
                  <a:srgbClr val="00b0f0"/>
                </a:solidFill>
                <a:latin typeface="Tahoma"/>
              </a:rPr>
              <a:t>quantitative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Tahoma"/>
              </a:rPr>
              <a:t>Theory Creation</a:t>
            </a:r>
            <a:r>
              <a:rPr b="0" lang="en-GB" sz="2000" spc="-1" strike="noStrike">
                <a:solidFill>
                  <a:srgbClr val="00b0f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– suggestion or development of a theory that would explain phenomena or results - </a:t>
            </a:r>
            <a:r>
              <a:rPr b="1" lang="en-GB" sz="2000" spc="-1" strike="noStrike">
                <a:solidFill>
                  <a:srgbClr val="00b0f0"/>
                </a:solidFill>
                <a:latin typeface="Tahoma"/>
              </a:rPr>
              <a:t>qualitative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Picture 4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pic>
        <p:nvPicPr>
          <p:cNvPr id="159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32000" y="1422360"/>
            <a:ext cx="7354800" cy="71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333399"/>
                </a:solidFill>
                <a:latin typeface="Tahoma"/>
              </a:rPr>
              <a:t>How to choose a suitable research approach and methods?</a:t>
            </a:r>
            <a:endParaRPr b="0" lang="en-US" sz="2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2276640"/>
            <a:ext cx="822960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- answering these questions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Do you intend to make a standardized comparison, quantify the relationships between the variables and describe the variability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Or, do you want to seek a more detailed study of a phenomenon or situation, holistically and in a context, with a focus on interpretations or processes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What suggestions can be found in the literature on the topic within this methodological issue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What are the practical implications of each alternative (including access to data and sources needs)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Which way leads to deeper knowledge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What type of research is closer to your mind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pic>
        <p:nvPicPr>
          <p:cNvPr id="164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80408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Tahoma"/>
              </a:rPr>
              <a:t>Methodology of research (approach, methods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394920" y="2017800"/>
            <a:ext cx="85597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32000" y="1052280"/>
            <a:ext cx="73548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99"/>
                </a:solidFill>
                <a:latin typeface="Tahoma"/>
              </a:rPr>
              <a:t>How to collect and analyse data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0000"/>
                </a:solidFill>
                <a:latin typeface="Tahoma"/>
              </a:rPr>
              <a:t>Data Collection Techniques 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- identify what data (primary / secondary) you need to answer research questions - choose the techniques to collect them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questionnaires,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interviews,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observations, .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0000"/>
                </a:solidFill>
                <a:latin typeface="Tahoma"/>
              </a:rPr>
              <a:t>Data collection tools and procedures for individual techniques 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for questionnaires - what kind of questions, posting by mail, electronically, </a:t>
            </a:r>
            <a:r>
              <a:rPr b="0" lang="is-IS" sz="16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for interviews - where, when, how to record, .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0000"/>
                </a:solidFill>
                <a:latin typeface="Tahoma"/>
              </a:rPr>
              <a:t>Data Analysis 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- identify how data will be analysed to get answers to research questions and to solve a research proble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Picture 4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pic>
        <p:nvPicPr>
          <p:cNvPr id="171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Title of the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PhD stud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Supervis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Tahoma"/>
              </a:rPr>
              <a:t>Data collection techniqu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87280" y="1415520"/>
            <a:ext cx="7499520" cy="933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333399"/>
                </a:solidFill>
                <a:latin typeface="Tahoma"/>
              </a:rPr>
              <a:t>Timetable and resources needed for carrying out research</a:t>
            </a:r>
            <a:endParaRPr b="0" lang="en-US" sz="2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593640" y="2099880"/>
            <a:ext cx="8229600" cy="39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reparing a research timetable will help verify the feasibility of research over a given time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ivision of research into phases (steps)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- each phase has a time period to comple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resources need to be assessed on material and financial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- availability of databases, software, </a:t>
            </a:r>
            <a:r>
              <a:rPr b="0" lang="is-IS" sz="20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-  availability of  financial sources or how could be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ources for research obtain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pic>
        <p:nvPicPr>
          <p:cNvPr id="178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87280" y="836640"/>
            <a:ext cx="749952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Timetable and resources needed for carrying out research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593640" y="2099880"/>
            <a:ext cx="8229600" cy="39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87280" y="836640"/>
            <a:ext cx="749952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Expected limitations of your research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593640" y="2099880"/>
            <a:ext cx="8229600" cy="39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18820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Tahoma"/>
              </a:rPr>
              <a:t>Expected benefits for theor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23640" y="333000"/>
            <a:ext cx="86310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Tahoma"/>
              </a:rPr>
              <a:t>Expected benefits for practic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82600" y="333000"/>
            <a:ext cx="76536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Tahoma"/>
              </a:rPr>
              <a:t>References: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1182600" y="1628280"/>
            <a:ext cx="7772400" cy="450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124000" y="1341000"/>
            <a:ext cx="6562800" cy="57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Tahoma"/>
              </a:rPr>
              <a:t>Area of Interes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ahoma"/>
              </a:rPr>
              <a:t>Try to identify topic to stud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–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entral idea to learn about or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pic>
        <p:nvPicPr>
          <p:cNvPr id="107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Tahoma"/>
              </a:rPr>
              <a:t>Area of interes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03280" y="1267920"/>
            <a:ext cx="7283520" cy="50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333399"/>
                </a:solidFill>
                <a:latin typeface="Tahoma"/>
              </a:rPr>
              <a:t>Literature review</a:t>
            </a:r>
            <a:endParaRPr b="0" lang="en-US" sz="2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1600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- demonstrat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level of knowledg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tr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g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0c0"/>
                </a:solidFill>
                <a:latin typeface="Tahoma"/>
              </a:rPr>
              <a:t>„</a:t>
            </a:r>
            <a:r>
              <a:rPr b="0" lang="en-GB" sz="2400" spc="-1" strike="noStrike">
                <a:solidFill>
                  <a:srgbClr val="0070c0"/>
                </a:solidFill>
                <a:latin typeface="Tahoma"/>
              </a:rPr>
              <a:t>Create argumentation, no library“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0c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70c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70c0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(Rudestam, Newton, 2002, s.59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pic>
        <p:nvPicPr>
          <p:cNvPr id="114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Tahoma"/>
              </a:rPr>
              <a:t>Literature review (just summary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32000" y="1341000"/>
            <a:ext cx="73548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333399"/>
                </a:solidFill>
                <a:latin typeface="Tahoma"/>
              </a:rPr>
              <a:t>Defining the research problem and the main objective of research </a:t>
            </a:r>
            <a:endParaRPr b="0" lang="en-US" sz="2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research problem is based on the so-called "</a:t>
            </a:r>
            <a:r>
              <a:rPr b="0" lang="en-GB" sz="2000" spc="-1" strike="noStrike">
                <a:solidFill>
                  <a:srgbClr val="ff0000"/>
                </a:solidFill>
                <a:latin typeface="Tahoma"/>
              </a:rPr>
              <a:t>research gap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"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 existing literature, solutions and research results can not be found, the problem has not been addressed, 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roblem has been solved, but the results are different, conflicts can be found in theoretical approaches, empirical methods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identified research problem follows by the formulation of the </a:t>
            </a:r>
            <a:r>
              <a:rPr b="0" lang="en-GB" sz="2000" spc="-1" strike="noStrike">
                <a:solidFill>
                  <a:srgbClr val="ff0000"/>
                </a:solidFill>
                <a:latin typeface="Tahoma"/>
              </a:rPr>
              <a:t>main objective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f the thesi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pic>
        <p:nvPicPr>
          <p:cNvPr id="121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Tahoma"/>
              </a:rPr>
              <a:t>Research problem and main aim </a:t>
            </a:r>
            <a:br>
              <a:rPr sz="3200"/>
            </a:br>
            <a:r>
              <a:rPr b="0" lang="cs-CZ" sz="3200" spc="-1" strike="noStrike">
                <a:solidFill>
                  <a:srgbClr val="333399"/>
                </a:solidFill>
                <a:latin typeface="Tahoma"/>
              </a:rPr>
              <a:t>of research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11600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763640" y="1484280"/>
            <a:ext cx="6624720" cy="165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How to set research questions, objectives and hypothes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5" name="Picture 6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sp>
        <p:nvSpPr>
          <p:cNvPr id="126" name="Zástupný symbol pro číslo snímku 11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8214C-4835-4A73-AC88-09419925AFA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  <p:sp>
        <p:nvSpPr>
          <p:cNvPr id="128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2T07:44:03Z</dcterms:created>
  <dc:creator>Drahomíra Pavelková</dc:creator>
  <dc:description/>
  <dc:language>en-US</dc:language>
  <cp:lastModifiedBy>Drahomíra Pavelková</cp:lastModifiedBy>
  <dcterms:modified xsi:type="dcterms:W3CDTF">2019-09-11T19:13:08Z</dcterms:modified>
  <cp:revision>10</cp:revision>
  <dc:subject/>
  <dc:title>      Conceptual research framework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